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DFF-CAC9-463C-9E1F-467D5B29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897-417E-4099-9CBC-3A85AC6B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1BD-9F8D-4B18-8EF2-FC37B17E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0F5-CE45-4BC0-A08F-310EDF60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3CF9-FE7E-4819-8768-AE1F7BD8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9075-5B49-4270-9DF7-481AF6DD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52C8-C038-4869-B6FB-7C6B0FA5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5FEC-8238-4499-BF01-D12274D0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A961-9E7A-4386-AEAE-0B4DE78A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54E1-4A41-4505-BD13-2E461FCA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9689-F4AA-4349-89CE-AE687EAB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403-F402-4DE1-9726-F5683AA6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A9BD-26CD-47C1-9723-E999E7B7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6CE2-963B-4B5F-BADC-8491E43A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C960-D256-476A-9C9F-8170CD96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FEF8-5D9B-47AA-B11D-76FEF1A8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FB36-4186-494B-9D1A-AD2BB2C6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0D731-C227-4565-B3FC-858E0C1F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C52B4-66D3-4DC9-BB2A-6D903C76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AF781-3E8D-4016-AEDA-25D857B9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3C46B-274C-4C14-B5F7-405B4845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E9720-9242-40AD-97A6-27BBC928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780-E7CD-4B5F-9DFC-E0DAF14D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2E1BF-E587-483B-A574-59FEEA49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09EBC-7D77-49C7-8B4F-4A61D8C5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3F0D8-A479-43F0-A4F3-EEF0D476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93B24-DE15-46FC-B5F6-0A6554A4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2F1E7-C58D-455B-A5DF-31BC1E31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EA5B2-D27D-42CB-ABEB-C48152AE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E78EC-20C8-4F7C-97FF-F15AA60C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5762-F43C-435A-B2A6-665ED344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B9ED4-2FCF-4B38-9548-13E20DEA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97200-EE1C-4958-86E7-53749648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F0A-6DC6-48C9-B3D4-83EA3350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6EFCB-F62B-4DEA-A15F-1BD41910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572E0-8CA7-4D0C-96C9-43B17277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DD842-ECC2-4250-B2E8-F2D9DDB0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7E5B1-0A88-493B-A1AD-BD188419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56CD8-EB1C-43A7-AF8C-E04CBDAD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C33B2-3C59-4DC5-8B7C-1FC8A0C0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66D1C-A4F6-4669-895B-2909CDAA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76564-FEAC-4152-A1FD-E311CAC6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C017E-1923-49A8-928E-76CF59C1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4C525-F3DC-43B6-9864-974964BA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18A-2383-4DDC-8480-6A0B8E44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D32BE-6EC1-4B9C-8016-5119692B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3F3319-7C2C-4993-82E8-146A1F53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6346C-27C0-409A-B28D-64704E81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C9979-E88F-4D65-A086-AF687214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E74A7-4FA0-4324-8841-B5F7159F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01830-862A-4410-AEC8-2AA3CBFD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002197-E6A9-4DE1-ACCD-32E3CAE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F7ACD-794A-4893-B513-D9DC2264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41E831-4A6A-4C17-9337-3C1367C5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83BA9-1224-4710-B114-BBF4CD78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7DF-B2C1-4909-9A75-AF287AD7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CE0404-B226-4169-BDE1-902FFA51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40C979-BA9A-4D87-8F84-4BCC117E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14C23-C839-4378-97B6-4BB4DE83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A2948-4CD2-415F-B0CC-5F16F4C2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EA74C9-2DD2-4AD8-AEF8-34700C37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3D035-C787-4FEE-8B85-7378D09D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7E588-D8FD-42F3-9A39-2B26F7FC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38523-834A-4830-AF03-1FA72A96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0CF5E-833A-4615-862A-23D87BD3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FFA1C-3900-491D-ACA5-8A74A843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A69-5508-4DB7-8224-9E548F75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903DE-8455-4FFE-949C-EA93197A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A2FEC-E5C4-4314-A667-9795DFE9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AEE647-367D-4C86-B5A0-CE34FB3D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54C04-1596-46E5-BCD9-702C72CA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021715-9CF7-42C3-9EAA-6AAB8C61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3C1CDD-7D58-4FE4-9EB5-2ED63867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DB1B7-8720-4BFB-9A6D-00B7159D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84D84-2DD0-46C9-AF87-D42BC168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87B6D-26A6-4152-8802-4542E2C2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E7B73-8893-4D52-AD72-F3B3654A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205-D0E7-46CF-96A8-A17421EF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D15BF-D878-4861-90F7-F515104C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AA629-56C0-4416-9E0C-E42B686C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6C5F2C-0D80-4F51-A48A-EF76E2BE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8DAA7-46EF-412D-8225-1EC75F93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D73F05-A504-4EA2-B302-BA3B7255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8C9-5939-4611-8EC2-2D5AA781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2FBF-BCE5-44ED-B73E-BA66F21408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5248-93D5-4C85-9241-98309F374E4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928F-2EF6-4A14-B7FC-C1717AA3CC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FC52-12B1-4FAE-B72B-C05A555E56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1DFD-41F2-463C-95BA-58F30BF230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DAE0-6D30-4898-8086-89793C7587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DB5E-5668-443A-81D3-3E4A32DD02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CORE VALUES AND COMPETENCIES FOR GLOBAL EDUCATION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OUR VISION FOR GLOBAL EDUCATION WAS ORGANIZED AROUND THE FF. CORE VALUES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eace and Non-violen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ocial justice and Human righ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conomic well-being and Equit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ltural integrit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cological balan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mocratic participa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ORE SKILLS AND COMPETENCI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lf-worth and self-affirm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affirmation of oth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ultural and racial differenc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itical think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ffective communication ski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n-violent conflict resolution and med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in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ffective organiz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SOCIO-CULTURAL ISSUE ON GLOBALIZATIO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assive migra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anaging differen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obal changes in cultu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obal changes in culture deeply affect educational policies, practices and institution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eachers and school need to have the flexibility to cope with and make use of the cultural resources that are in their classroom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Coatsworth, 2004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Content Placeholder 4" descr="classroom (1).png"/>
          <p:cNvPicPr/>
          <p:nvPr/>
        </p:nvPicPr>
        <p:blipFill>
          <a:blip r:embed="rId1"/>
          <a:stretch/>
        </p:blipFill>
        <p:spPr>
          <a:xfrm>
            <a:off x="457200" y="2436840"/>
            <a:ext cx="3657600" cy="2898720"/>
          </a:xfrm>
          <a:prstGeom prst="rect">
            <a:avLst/>
          </a:prstGeom>
          <a:ln w="0">
            <a:noFill/>
          </a:ln>
        </p:spPr>
      </p:pic>
      <p:pic>
        <p:nvPicPr>
          <p:cNvPr id="362" name="Content Placeholder 5" descr="teacher.gif"/>
          <p:cNvPicPr/>
          <p:nvPr/>
        </p:nvPicPr>
        <p:blipFill>
          <a:blip r:embed="rId2"/>
          <a:stretch/>
        </p:blipFill>
        <p:spPr>
          <a:xfrm>
            <a:off x="4908600" y="269568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CONOMIC ISSUES ON GLOBALIZ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obalization brings about opportunities for education particularly in the ways that new technologies can be put to work to improve both the quality and quantity of education worldwid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Content Placeholder 4" descr="technology2.jpg"/>
          <p:cNvPicPr/>
          <p:nvPr/>
        </p:nvPicPr>
        <p:blipFill>
          <a:blip r:embed="rId1"/>
          <a:stretch/>
        </p:blipFill>
        <p:spPr>
          <a:xfrm>
            <a:off x="457200" y="2525760"/>
            <a:ext cx="3657600" cy="2720880"/>
          </a:xfrm>
          <a:prstGeom prst="rect">
            <a:avLst/>
          </a:prstGeom>
          <a:ln w="0">
            <a:noFill/>
          </a:ln>
        </p:spPr>
      </p:pic>
      <p:pic>
        <p:nvPicPr>
          <p:cNvPr id="367" name="Content Placeholder 5" descr="technology.jpg"/>
          <p:cNvPicPr/>
          <p:nvPr/>
        </p:nvPicPr>
        <p:blipFill>
          <a:blip r:embed="rId2"/>
          <a:stretch/>
        </p:blipFill>
        <p:spPr>
          <a:xfrm>
            <a:off x="4460760" y="1714680"/>
            <a:ext cx="327672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LITICAL ISSUES ON GLOBALIZ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ducation creates a capacity to mitigate the disparities in the world today that are potentially very destabilizing, both from an economic and a political point of view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Bloom, 2002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2:58:34Z</dcterms:created>
  <dc:creator>Innovation</dc:creator>
  <dc:description/>
  <dc:language>en-US</dc:language>
  <cp:lastModifiedBy>Innovation</cp:lastModifiedBy>
  <dcterms:modified xsi:type="dcterms:W3CDTF">2012-03-22T14:07:47Z</dcterms:modified>
  <cp:revision>7</cp:revision>
  <dc:subject/>
  <dc:title>CORE VALUES AND COMPETENCIES FOR GLOBAL EDUCATION</dc:title>
</cp:coreProperties>
</file>